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ED48-A2EF-4FCA-9094-0B32A4C53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58C0-B310-4DAC-8317-3D26C48EE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437F-EE34-4544-9834-B211675C5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8763-663E-4713-BB9C-BECF92FE6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F685-6584-494C-9366-2B045E91C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9266-9A87-4780-B08B-BED71FF67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6CFF-40F4-41FC-B0DA-D87C872CE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BA4D-8E2D-4D98-A8B2-3386A94C4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997E-780D-47A1-91B2-2038A83F1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DDE3FF90-AAE3-42B5-9DB4-F0B373778AC6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A8BC5CFE-03B4-4442-9A8C-74B1193C1A8D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364FF0F7-B227-43A9-86CB-9C158E972651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89000" y="5748480"/>
            <a:ext cx="87660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. 14: Presentations with Graphics and Multimedia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nserting and Formatting Slid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de Layout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lides are available in different lay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layout that works best for the content of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8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18773C0D-9E7A-4C1D-B645-BC595901284B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lide Layout Option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8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8B01F44D-964E-4198-86E3-186D10EF12C3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990720" y="1606680"/>
            <a:ext cx="7696080" cy="45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Arrange All Featur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range Al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s feature allows you to work on two files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ill appear on the same screen at the sam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Slide Pane of the presentation to make it active (enabling you to work on i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AD1C4B7A-AEE2-405C-8A41-DB038FE990E9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Arrange All Featur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8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BA39363-B0C0-42BB-B37D-BD173F9F73E2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758880" y="1646280"/>
            <a:ext cx="81532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Add Content to Slid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52320" y="1495440"/>
            <a:ext cx="825984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title that relates to one of your main topics in your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main points &amp; subpoints related to the topic on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ize important words in a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ize the first word of each line in a bulleted list &amp; all proper 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hort phrases for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place punctuation at the end of the lines – incomplete senten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8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C1896500-51FE-4CDD-89B0-F7DE56142631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Adding Content to Slid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8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2B0A4F54-2161-4427-A322-D5342D62083E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90720" y="1755720"/>
            <a:ext cx="76960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lide Tabl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Insert Table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rows and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tabl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8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A4CCC48B-6E59-4D59-A54B-D42FB49CFDCC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5232240" y="3863880"/>
            <a:ext cx="2860920" cy="1716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2"/>
          <a:stretch/>
        </p:blipFill>
        <p:spPr>
          <a:xfrm>
            <a:off x="6073920" y="2016000"/>
            <a:ext cx="2349360" cy="1568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3"/>
          <a:stretch/>
        </p:blipFill>
        <p:spPr>
          <a:xfrm>
            <a:off x="1238400" y="3362400"/>
            <a:ext cx="37573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1:26:03Z</dcterms:created>
  <dc:creator>Jean Bissell</dc:creator>
  <dc:description>Copyright 2006 South-Western/Thomson</dc:description>
  <dc:language>en-US</dc:language>
  <cp:lastModifiedBy>Lenessa Keehn</cp:lastModifiedBy>
  <dcterms:modified xsi:type="dcterms:W3CDTF">2011-03-29T13:48:10Z</dcterms:modified>
  <cp:revision>18</cp:revision>
  <dc:subject/>
  <dc:title>Slide 1</dc:title>
</cp:coreProperties>
</file>